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A09-BF30-4E18-BC33-D727721A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203-FE53-4581-868D-A696A8C5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29F-5E82-481D-82A4-CE5DD893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760-F0B4-4284-B7D5-B0001DB1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A92B-C4A6-44CC-AD8E-D659A299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A737-913D-462D-BC73-7E6E94BD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CE22-7890-442D-A01A-3059953D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D8DA-E1A6-48B4-9390-4DB951E4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BFE3-32C5-4AE7-A914-652EADFC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AA18-BC8B-4F3D-A819-50906601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69F7-1777-4A52-BA4F-C08929D0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70FD-3D7C-47EF-BBBD-CE5DA824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EF05-2881-4293-A4C0-0F30769B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C306-9BFA-4D6E-8C38-928E048A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80B0-052E-4F89-9C50-492A26CA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7901-F8EF-44C9-9387-90F9980A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7F6B9-5E94-41CB-8A81-4B1E9996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C39C0-720B-4ACA-AF33-1D73B3B7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EC51-9A2A-4328-BB4F-05DA1F98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8E5F-8C96-483E-8D71-678C6F18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54781-6CB0-4CFC-AAAA-870E28A1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F98B-02DC-441C-9E60-8A0B0AF4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62D44-B4E7-46D6-8BE5-AC7C6083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50C7B-95FD-43E9-971E-93830630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48334-8B03-4906-A4E4-0A1A5BB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40A9D-11A8-442C-95CA-5AF27E04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D2221-B3A6-4FEA-9087-9B8D07AC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A07D5-4BB1-4FFE-B975-EB3A5DB6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5CC-78A8-40AE-8691-B94BFBBA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9E7-04E2-4442-8C44-2BA332B4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346-13DD-4A14-89AD-B94239BA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198-9C4A-4F7E-80A8-D5647731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7F1-CFA9-4253-A72A-703AC1FF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617-D6FA-4513-962C-5EB4630E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7BE-333D-45EE-BCAE-1E5E2B55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146-8909-4571-9A0E-77E3C9A1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11ED-9C0D-4A47-877F-D673184873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CE89-ABC2-43F2-B7F0-96FE179EECA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39BF-1DD6-4B0C-A7C4-792233A264C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4160" y="341280"/>
            <a:ext cx="6364080" cy="22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Navodila organa upravljanja za izvajanje</a:t>
            </a:r>
            <a:br>
              <a:rPr sz="2800"/>
            </a:b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upravljalnih preverjanj po 125. členu Uredbe (EU) št. 1303/2013</a:t>
            </a:r>
            <a:br>
              <a:rPr sz="2800"/>
            </a:b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za programsko obdobje 2014-2020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1.12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Content Placeholder 3" descr=""/>
          <p:cNvPicPr/>
          <p:nvPr/>
        </p:nvPicPr>
        <p:blipFill>
          <a:blip r:embed="rId1"/>
          <a:stretch/>
        </p:blipFill>
        <p:spPr>
          <a:xfrm>
            <a:off x="378000" y="1494000"/>
            <a:ext cx="8119800" cy="490032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Preverjanje opravljanja prenesenih nalog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Content Placeholder 3" descr=""/>
          <p:cNvPicPr/>
          <p:nvPr/>
        </p:nvPicPr>
        <p:blipFill>
          <a:blip r:embed="rId1"/>
          <a:stretch/>
        </p:blipFill>
        <p:spPr>
          <a:xfrm>
            <a:off x="579600" y="1182600"/>
            <a:ext cx="8064360" cy="533412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9040" y="364680"/>
            <a:ext cx="78264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Nepravilnosti – finančni popravki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529920" y="1080720"/>
            <a:ext cx="798516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Vzorci prilo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 za izvedbo kontrole zahtevka za izplači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 po vrsti stroš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 za izvedbo javnega naročila po odprtem postopku – ZJN-2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vestilo O IZVEDBI PREVERJANJA NA KRAJU SAM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ročila o izvedenem preverjanju na kraju sam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 o izvedenem preverjanju na kraju sam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spoštovanju nacionalnih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EU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pravil na področju komuniciranja in informir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L - plačila s poboti (kompenzacija), asignacija, ces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37920" y="365040"/>
            <a:ext cx="787716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Priloga navodilo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Content Placeholder 3" descr=""/>
          <p:cNvPicPr/>
          <p:nvPr/>
        </p:nvPicPr>
        <p:blipFill>
          <a:blip r:embed="rId1"/>
          <a:stretch/>
        </p:blipFill>
        <p:spPr>
          <a:xfrm>
            <a:off x="371520" y="1603440"/>
            <a:ext cx="8175600" cy="454176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95440" y="365040"/>
            <a:ext cx="79200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 Light"/>
              </a:rPr>
              <a:t>KL za izvedbo kontrole ZZI</a:t>
            </a:r>
            <a:br>
              <a:rPr sz="4000"/>
            </a:br>
            <a:r>
              <a:rPr b="1" lang="pl-PL" sz="3600" spc="-1" strike="noStrike" u="sng">
                <a:solidFill>
                  <a:srgbClr val="c00000"/>
                </a:solidFill>
                <a:uFillTx/>
                <a:latin typeface="Calibri Light"/>
              </a:rPr>
              <a:t>vedno izpolniti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4" descr="http://zabavno.si/wp-content/uploads/2014/09/vprasanja-odgovori-zabavno.jpg"/>
          <p:cNvPicPr/>
          <p:nvPr/>
        </p:nvPicPr>
        <p:blipFill>
          <a:blip r:embed="rId1"/>
          <a:stretch/>
        </p:blipFill>
        <p:spPr>
          <a:xfrm>
            <a:off x="358920" y="-36360"/>
            <a:ext cx="753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18640" y="364680"/>
            <a:ext cx="70678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00000"/>
                </a:solidFill>
                <a:latin typeface="Calibri Light"/>
              </a:rPr>
              <a:t>Kazal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5" name="Content Placeholder 3" descr=""/>
          <p:cNvPicPr/>
          <p:nvPr/>
        </p:nvPicPr>
        <p:blipFill>
          <a:blip r:embed="rId1"/>
          <a:stretch/>
        </p:blipFill>
        <p:spPr>
          <a:xfrm>
            <a:off x="853920" y="1268280"/>
            <a:ext cx="790596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Content Placeholder 3" descr=""/>
          <p:cNvPicPr/>
          <p:nvPr/>
        </p:nvPicPr>
        <p:blipFill>
          <a:blip r:embed="rId1"/>
          <a:stretch/>
        </p:blipFill>
        <p:spPr>
          <a:xfrm>
            <a:off x="158760" y="890640"/>
            <a:ext cx="9009000" cy="596736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29720" y="174240"/>
            <a:ext cx="7767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Pravna podlag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Content Placeholder 3" descr=""/>
          <p:cNvPicPr/>
          <p:nvPr/>
        </p:nvPicPr>
        <p:blipFill>
          <a:blip r:embed="rId1"/>
          <a:stretch/>
        </p:blipFill>
        <p:spPr>
          <a:xfrm>
            <a:off x="311040" y="1566720"/>
            <a:ext cx="8266320" cy="485784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Kontrola/preverjanj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217080" y="1535040"/>
            <a:ext cx="876636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4. odstavek 125 čle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(a) preverjanje, ali so bili sofinancirani proizvodi in storitve zagotovljeni ter ali so bili izdatki, ki so jih prijavili upravičenci , plačani in ali so ti v skladu z veljavno zakonodajo, operativnim programom in izpolnjeni pogoji za podporo operaciji; (b) zagotavlja, da upravičenci, vključeni v izvajanje operacij, za katere se vrnejo upravičeni in dejansko nastali izdatki, vodijo ločeno računovodstvo ali ustrezno računovodsko kodo za vse transakcije v zvezi z operacijo; (c) ob upoštevanju ugotovljenih tveganj uvede učinkovite in sorazmerne ukrepe za preprečevanje goljufij; (d) vzpostavi postopke, ki zagotavljajo, da se vsi dokumenti v zvezi z izdatki in revizijami, ki se zahtevajo za zagotovitev ustrezne revizijske sledi, hranijo v skladu z zahtevami iz točke (g) člena 72; (e) pripravi izjavo o upravljanju in letni povzetek iz točk (a) in (b) člena 59(5) finančne uredb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39440" y="365040"/>
            <a:ext cx="777564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125. člen Uredbe (EU) št. 1303/2013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Content Placeholder 3" descr=""/>
          <p:cNvPicPr/>
          <p:nvPr/>
        </p:nvPicPr>
        <p:blipFill>
          <a:blip r:embed="rId1"/>
          <a:stretch/>
        </p:blipFill>
        <p:spPr>
          <a:xfrm>
            <a:off x="407880" y="1298520"/>
            <a:ext cx="8259840" cy="526104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365040"/>
            <a:ext cx="79059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Vrste upravljalnih preverjanj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Content Placeholder 3" descr=""/>
          <p:cNvPicPr/>
          <p:nvPr/>
        </p:nvPicPr>
        <p:blipFill>
          <a:blip r:embed="rId1"/>
          <a:stretch/>
        </p:blipFill>
        <p:spPr>
          <a:xfrm>
            <a:off x="536400" y="1285920"/>
            <a:ext cx="8242560" cy="530388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11360" y="364680"/>
            <a:ext cx="7804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Kdo izvaja upravljalna preverjanj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Content Placeholder 4" descr=""/>
          <p:cNvPicPr/>
          <p:nvPr/>
        </p:nvPicPr>
        <p:blipFill>
          <a:blip r:embed="rId1"/>
          <a:stretch/>
        </p:blipFill>
        <p:spPr>
          <a:xfrm>
            <a:off x="450720" y="1243080"/>
            <a:ext cx="8077320" cy="5310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60240" y="365040"/>
            <a:ext cx="78552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Administrativno preverjanj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Content Placeholder 3" descr=""/>
          <p:cNvPicPr/>
          <p:nvPr/>
        </p:nvPicPr>
        <p:blipFill>
          <a:blip r:embed="rId1"/>
          <a:stretch/>
        </p:blipFill>
        <p:spPr>
          <a:xfrm>
            <a:off x="554040" y="1371600"/>
            <a:ext cx="8188200" cy="48211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37920" y="365040"/>
            <a:ext cx="787716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Preverjanje na kraju same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Irena Brcko Kogoj</cp:lastModifiedBy>
  <dcterms:modified xsi:type="dcterms:W3CDTF">2015-11-30T07:56:54Z</dcterms:modified>
  <cp:revision>57</cp:revision>
  <dc:subject/>
  <dc:title>PowerPoint Presentation</dc:title>
</cp:coreProperties>
</file>